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B78-05EB-42D8-B632-48D64EF3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66B-7FB9-4F87-8619-FC35E69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A07-09B9-4C3A-80C2-6FEE34F9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E91-D147-44BD-A6AC-2684CC3E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4B-4FFE-4AD0-8006-584CFE5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3DE-1691-4294-9DA9-288C57C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0F8-1FEF-4A86-9903-56C551D7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99D-BE75-4F8A-8746-2735785A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A33-4DE3-4BE0-93A0-A999140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494-B568-4324-AF40-B5FEFE5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16A-9BAD-40E3-BE5A-968E5B0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830-FEC0-47B4-B076-50DC7BD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0BE-EC27-405F-AA4E-632ACE6E69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4753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"/>
              </a:rPr>
              <a:t>Para Crear un Mód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640" y="1052640"/>
            <a:ext cx="554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Abra el Editor de VBA. (Alt + F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el Menú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Insertar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seleccione la opción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Mód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la Ventana de </a:t>
            </a: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Código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digite el texto similar al que se muestra en la imagen de 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la propiedad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, asigne un nombre acorde con lo que éste ejecutará. En este ejemplo se asigna el nombre MDLEditorial para indicar que se refiere a uso del formulario FrmEditorial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(Creado previamente)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Nota: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 Repite los pasos del 1 al 4 para otros módulos que necesites cr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702400" y="404640"/>
            <a:ext cx="333360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84360" y="3246480"/>
            <a:ext cx="7583400" cy="29908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8"/>
          <p:cNvSpPr/>
          <p:nvPr/>
        </p:nvSpPr>
        <p:spPr>
          <a:xfrm>
            <a:off x="4643280" y="5229360"/>
            <a:ext cx="4249800" cy="1512720"/>
          </a:xfrm>
          <a:prstGeom prst="wedgeRoundRectCallout">
            <a:avLst>
              <a:gd name="adj1" fmla="val 5435"/>
              <a:gd name="adj2" fmla="val -93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Recuerda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que los Módulos son procedimientos que se crean con la intención de utilizarlos posteriormente, para ejecutar algún ev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s recomendable primero crear cada módulo y luego activarlo mediante un botón, autoforma, imagen u otro ele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50920" y="2276640"/>
            <a:ext cx="360360" cy="3744720"/>
            <a:chOff x="250920" y="2276640"/>
            <a:chExt cx="360360" cy="3744720"/>
          </a:xfrm>
        </p:grpSpPr>
        <p:sp>
          <p:nvSpPr>
            <p:cNvPr id="47" name="Line 9"/>
            <p:cNvSpPr/>
            <p:nvPr/>
          </p:nvSpPr>
          <p:spPr>
            <a:xfrm>
              <a:off x="2509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50920" y="2276640"/>
              <a:ext cx="0" cy="37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13"/>
          <p:cNvSpPr/>
          <p:nvPr/>
        </p:nvSpPr>
        <p:spPr>
          <a:xfrm>
            <a:off x="601200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 flipH="1">
            <a:off x="3851280" y="19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133960" y="14270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24000" y="58680"/>
            <a:ext cx="25923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Programación VBA en 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651640" y="1930320"/>
            <a:ext cx="144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594400" y="1628640"/>
            <a:ext cx="144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Arial"/>
              </a:rPr>
              <a:t>Para Activar un Mód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348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Haz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clic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botón derecho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del mouse sobre el objeto mediante el cual deseas activar un mód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n el menú activado elija la opción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Configuración de la acció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n cuadro de dialogo, en la opción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Ejecutar Macro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, seleccione el nombre del módulo a utiliz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Luego Seleccione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Aceptar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Active la presentación Power Point (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Da un clic sobre el objeto al que se le asignó el módulo para activar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Nota: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 En este ejemplo estamos activando el módulo AbrirFrmEditorial, para abrir el formulario Ed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pita los pasos del 1 al 4 para activar los módulos deseados y creados previ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546360" y="189000"/>
            <a:ext cx="531180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266508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4000" y="58680"/>
            <a:ext cx="25923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Programación VBA en 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2700360" y="98064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2987640" y="2520720"/>
            <a:ext cx="20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2842920" y="3141720"/>
            <a:ext cx="1800360" cy="2448000"/>
            <a:chOff x="2842920" y="3141720"/>
            <a:chExt cx="1800360" cy="2448000"/>
          </a:xfrm>
        </p:grpSpPr>
        <p:sp>
          <p:nvSpPr>
            <p:cNvPr id="64" name="AutoShape 9"/>
            <p:cNvSpPr/>
            <p:nvPr/>
          </p:nvSpPr>
          <p:spPr>
            <a:xfrm>
              <a:off x="4284720" y="5157720"/>
              <a:ext cx="358560" cy="432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341964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 flipV="1">
              <a:off x="3419640" y="3141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2842920" y="3141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0108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Programando objetos tipo imagen de VBA en una Presentación Pow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635280" y="2419200"/>
            <a:ext cx="4734000" cy="439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271440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68360" y="333360"/>
            <a:ext cx="8137440" cy="21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Active la barra de herramientas Cuadro de Controles (Ver – Barras de Herramientas – Cuadro de Contr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Inserta un objeto imagen en pantalla como se observa en la figura de abajo utilizada como muest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Abre la ventana propiedades del objeto imagen y modifica las señaladas con una flecha a la izqui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Haz doble clic sobre el objeto imagen y digita el siguiente código de programación (indicado con la flech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Cierre la ventana de código.- Active la presentación PP (F5) y haz clic en el objeto imagen que haz program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pite el procedimiento la cantidad de veces que desees utilizar este estilo de program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127080" y="315612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141120" y="360216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141120" y="388944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141120" y="473868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41120" y="502776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2987640" y="3789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8244000" y="2492280"/>
            <a:ext cx="288720" cy="1511280"/>
          </a:xfrm>
          <a:custGeom>
            <a:avLst/>
            <a:gdLst>
              <a:gd name="textAreaLeft" fmla="*/ 0 w 288720"/>
              <a:gd name="textAreaRight" fmla="*/ 104040 w 2887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8"/>
          <p:cNvSpPr/>
          <p:nvPr/>
        </p:nvSpPr>
        <p:spPr>
          <a:xfrm>
            <a:off x="8604360" y="3068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0"/>
          <p:cNvSpPr/>
          <p:nvPr/>
        </p:nvSpPr>
        <p:spPr>
          <a:xfrm>
            <a:off x="3132000" y="364500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1" descr=""/>
          <p:cNvPicPr/>
          <p:nvPr/>
        </p:nvPicPr>
        <p:blipFill>
          <a:blip r:embed="rId3"/>
          <a:stretch/>
        </p:blipFill>
        <p:spPr>
          <a:xfrm>
            <a:off x="900000" y="1297080"/>
            <a:ext cx="5256360" cy="504720"/>
          </a:xfrm>
          <a:prstGeom prst="rect">
            <a:avLst/>
          </a:prstGeom>
          <a:ln w="0">
            <a:noFill/>
          </a:ln>
        </p:spPr>
      </p:pic>
      <p:sp>
        <p:nvSpPr>
          <p:cNvPr id="83" name="Line 32"/>
          <p:cNvSpPr/>
          <p:nvPr/>
        </p:nvSpPr>
        <p:spPr>
          <a:xfrm>
            <a:off x="682560" y="157176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4"/>
          <p:cNvSpPr/>
          <p:nvPr/>
        </p:nvSpPr>
        <p:spPr>
          <a:xfrm>
            <a:off x="4788000" y="383220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9"/>
          <p:cNvSpPr/>
          <p:nvPr/>
        </p:nvSpPr>
        <p:spPr>
          <a:xfrm>
            <a:off x="5867280" y="364320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3:04:38Z</dcterms:created>
  <dc:creator>Administrador</dc:creator>
  <dc:description/>
  <dc:language>en-US</dc:language>
  <cp:lastModifiedBy>andres</cp:lastModifiedBy>
  <dcterms:modified xsi:type="dcterms:W3CDTF">2008-05-27T15:53:13Z</dcterms:modified>
  <cp:revision>13</cp:revision>
  <dc:subject/>
  <dc:title>Diapositiva 1</dc:title>
</cp:coreProperties>
</file>